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9AB-9E94-453C-82B4-63E83BAC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76516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23C-FAD5-4DDB-B6B8-5FB0A7D4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808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900-B9A5-4A07-B58C-0DA77E86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84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2904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84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2904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C25-AB34-4FD3-9523-F4A609CE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3848-8050-4C8A-A457-C7CC54B9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9295-2AEA-4933-9630-7917738A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131A-1AC2-4F68-82BF-3F82F59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CCC7-A0C1-4AF9-ADBB-AFCF4FF8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9C5F-EF50-4F0A-9A3E-9D6979EA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57240"/>
            <a:ext cx="678168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788D-351D-4903-82D3-451095B7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C03B-E589-460A-955D-7107A24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389-FE48-4684-93EB-E56AEA73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808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B675-F5B6-4377-A01C-1FE2E2E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A302-872B-4064-AF09-1022290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276516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4061-90CC-4389-A86C-71B540BB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808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B1B1-B2FB-4664-9664-897C9A70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584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904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584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2904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E498-53B1-45C2-AF62-02B43895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D9F2-22A9-4F4F-AE27-E9127C3A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296B-9C67-4F61-83F8-47EA2D8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F344-B5DC-4185-90F4-7779C62E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E0E3-DF99-49F8-B5BD-95B9044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88D1-70BF-4658-84F5-FC64990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C37-5DBE-410E-9D47-DB68EE32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57240"/>
            <a:ext cx="678168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C45F-646E-4466-A45C-93F9E8CA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404F-A234-47DF-A3A3-6BD753D4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1808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78FE-94A6-4353-A62F-C529202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F90A-0CB5-42F6-8011-08F2BAED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43000" y="276516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3714-6A11-41ED-8E71-863CFFD5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1808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9E490-8208-4007-B266-40D30D97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584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2904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4300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584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2904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EB34-E742-4354-B40E-673AAB62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039E-7636-43F3-A85A-A19878EB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53ED-07AB-47BB-85FB-BCD6E6AB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B85B-CDBC-41D6-B273-5D11C01E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662-2B04-4FF1-BF65-35D5F53D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F304-B27A-42A4-8DE5-31C384C9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D2A1-8B4D-4D10-9AED-E89CA4F7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57240"/>
            <a:ext cx="678168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B4E6-AB58-4850-93EF-EA95B6E2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FEA8-6320-4456-88EA-798BDCD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808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F3FA-EAE8-4932-A072-FABB21A3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DDEA-A03A-43A3-B713-33194B13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43000" y="276516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6CFEE-5544-4646-8EFF-A51C35B3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808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FEE6-0BAD-4341-9A3C-6DEB1EB5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584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29040" y="91404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4300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584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29040" y="2765160"/>
            <a:ext cx="218340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BA55A-807E-4382-8300-A9901E5B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C50-2994-4B11-8672-5B3E4EC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57240"/>
            <a:ext cx="678168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C30-7DBF-4E0D-8B73-B9A9B216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637-62C7-4F97-AEAD-9797869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8080" y="276516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417-9DD8-4C67-A7E5-64D078A4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8080" y="914040"/>
            <a:ext cx="330912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765160"/>
            <a:ext cx="6781680" cy="16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716-547B-4377-9AE1-B1F9B3FF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00C1-C6E5-416C-B107-13977B6574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18A-0BDD-4544-A1AF-95FD762AAD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80880" y="4686120"/>
            <a:ext cx="19051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6120"/>
            <a:ext cx="289584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4686120"/>
            <a:ext cx="19051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1143-3E1C-4261-A5B5-8306660CAAA5}" type="slidenum">
              <a:rPr b="0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57240"/>
            <a:ext cx="6781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43000" y="914040"/>
            <a:ext cx="67816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80880" y="4686120"/>
            <a:ext cx="19051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6120"/>
            <a:ext cx="289584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8000" y="4686120"/>
            <a:ext cx="19051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24B6-24EF-4563-994A-BEFA1DD45D2A}" type="slidenum">
              <a:rPr b="0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2417760"/>
            <a:ext cx="7991640" cy="861840"/>
          </a:xfrm>
          <a:prstGeom prst="rect">
            <a:avLst/>
          </a:prstGeom>
          <a:noFill/>
          <a:ln w="0">
            <a:noFill/>
          </a:ln>
        </p:spPr>
        <p:txBody>
          <a:bodyPr tIns="13716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Arial"/>
              </a:rPr>
              <a:t>Костина Виктория Ивановна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Arial"/>
              </a:rPr>
              <a:t>методист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0" y="108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42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-217440" y="-98280"/>
            <a:ext cx="9578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42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00"/>
                </a:solidFill>
                <a:latin typeface="Garamond"/>
              </a:rPr>
              <a:t>Муниципальное автономное учреждение дополнительного образования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Garamond"/>
              </a:rPr>
              <a:t>города Набережные Челны Республики Татарстан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Garamond"/>
              </a:rPr>
              <a:t>«Городской дворец творчества детей и молодежи №1»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8" descr="uNDglu-tSXY"/>
          <p:cNvPicPr/>
          <p:nvPr/>
        </p:nvPicPr>
        <p:blipFill>
          <a:blip r:embed="rId1"/>
          <a:stretch/>
        </p:blipFill>
        <p:spPr>
          <a:xfrm>
            <a:off x="4680" y="3440160"/>
            <a:ext cx="8172360" cy="1725480"/>
          </a:xfrm>
          <a:prstGeom prst="rect">
            <a:avLst/>
          </a:prstGeom>
          <a:ln w="0">
            <a:noFill/>
          </a:ln>
        </p:spPr>
      </p:pic>
      <p:cxnSp>
        <p:nvCxnSpPr>
          <p:cNvPr id="168" name="AutoShape 9"/>
          <p:cNvCxnSpPr/>
          <p:nvPr/>
        </p:nvCxnSpPr>
        <p:spPr>
          <a:xfrm>
            <a:off x="0" y="856800"/>
            <a:ext cx="9144720" cy="2520"/>
          </a:xfrm>
          <a:prstGeom prst="straightConnector1">
            <a:avLst/>
          </a:prstGeom>
          <a:ln w="38160">
            <a:solidFill>
              <a:srgbClr val="001800"/>
            </a:solidFill>
            <a:miter/>
          </a:ln>
        </p:spPr>
      </p:cxnSp>
      <p:pic>
        <p:nvPicPr>
          <p:cNvPr id="169" name="Рисунок 1" descr=""/>
          <p:cNvPicPr/>
          <p:nvPr/>
        </p:nvPicPr>
        <p:blipFill>
          <a:blip r:embed="rId2"/>
          <a:stretch/>
        </p:blipFill>
        <p:spPr>
          <a:xfrm>
            <a:off x="6300720" y="3657600"/>
            <a:ext cx="2698920" cy="12891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3"/>
          <p:cNvSpPr/>
          <p:nvPr/>
        </p:nvSpPr>
        <p:spPr>
          <a:xfrm>
            <a:off x="108000" y="987480"/>
            <a:ext cx="9036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600"/>
                </a:solidFill>
                <a:latin typeface="Times New Roman"/>
                <a:ea typeface="Times New Roman"/>
              </a:rPr>
              <a:t>Семинар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600"/>
                </a:solidFill>
                <a:latin typeface="Times New Roman"/>
                <a:ea typeface="Times New Roman"/>
              </a:rPr>
              <a:t>«Интерактивные технологии в профессиональном обучении педагогов дополнительного образования»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7"/>
          <p:cNvSpPr/>
          <p:nvPr/>
        </p:nvSpPr>
        <p:spPr>
          <a:xfrm>
            <a:off x="536400" y="123840"/>
            <a:ext cx="83980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3f15"/>
                </a:solidFill>
                <a:latin typeface="Garamond"/>
              </a:rPr>
              <a:t>Технология «Творческая мастерская»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Oval 9"/>
          <p:cNvSpPr/>
          <p:nvPr/>
        </p:nvSpPr>
        <p:spPr>
          <a:xfrm>
            <a:off x="2916360" y="2517840"/>
            <a:ext cx="3311280" cy="1243080"/>
          </a:xfrm>
          <a:prstGeom prst="ellipse">
            <a:avLst/>
          </a:prstGeom>
          <a:solidFill>
            <a:srgbClr val="ffdb93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1900"/>
                </a:solidFill>
                <a:latin typeface="Garamond"/>
              </a:rPr>
              <a:t>проблемный метод обучения</a:t>
            </a:r>
            <a:r>
              <a:rPr b="1" lang="ru-RU" sz="2000" spc="-1" strike="noStrike">
                <a:solidFill>
                  <a:srgbClr val="4c2600"/>
                </a:solidFill>
                <a:latin typeface="Garamond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38040" y="3699000"/>
            <a:ext cx="3024360" cy="1295280"/>
          </a:xfrm>
          <a:prstGeom prst="ellipse">
            <a:avLst/>
          </a:prstGeom>
          <a:solidFill>
            <a:srgbClr val="ffdb93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1900"/>
                </a:solidFill>
                <a:latin typeface="Garamond"/>
              </a:rPr>
              <a:t>творческий процесс обучения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5743440" y="3711600"/>
            <a:ext cx="3162600" cy="1285920"/>
          </a:xfrm>
          <a:prstGeom prst="ellipse">
            <a:avLst/>
          </a:prstGeom>
          <a:solidFill>
            <a:srgbClr val="ffdb93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1900"/>
                </a:solidFill>
                <a:latin typeface="Garamond"/>
              </a:rPr>
              <a:t>педагог-мастер: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1900"/>
                </a:solidFill>
                <a:latin typeface="Garamond"/>
              </a:rPr>
              <a:t>консультант советчик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1908000" y="898560"/>
            <a:ext cx="1368720" cy="270000"/>
          </a:xfrm>
          <a:prstGeom prst="line">
            <a:avLst/>
          </a:prstGeom>
          <a:ln w="28440">
            <a:solidFill>
              <a:srgbClr val="2f1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4572000" y="896760"/>
            <a:ext cx="0" cy="1621080"/>
          </a:xfrm>
          <a:prstGeom prst="line">
            <a:avLst/>
          </a:prstGeom>
          <a:ln w="28440">
            <a:solidFill>
              <a:srgbClr val="2f1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5940360" y="896760"/>
            <a:ext cx="1079640" cy="162000"/>
          </a:xfrm>
          <a:prstGeom prst="line">
            <a:avLst/>
          </a:prstGeom>
          <a:ln w="38160">
            <a:solidFill>
              <a:srgbClr val="2f1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1979640" y="896760"/>
            <a:ext cx="2016000" cy="2754360"/>
          </a:xfrm>
          <a:prstGeom prst="line">
            <a:avLst/>
          </a:prstGeom>
          <a:ln w="28440">
            <a:solidFill>
              <a:srgbClr val="2f1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Oval 6"/>
          <p:cNvSpPr/>
          <p:nvPr/>
        </p:nvSpPr>
        <p:spPr>
          <a:xfrm>
            <a:off x="250920" y="1168560"/>
            <a:ext cx="3097080" cy="1474560"/>
          </a:xfrm>
          <a:prstGeom prst="ellipse">
            <a:avLst/>
          </a:prstGeom>
          <a:solidFill>
            <a:srgbClr val="ffdb93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1900"/>
                </a:solidFill>
                <a:latin typeface="Garamond"/>
              </a:rPr>
              <a:t>интенсивная технология обучения</a:t>
            </a:r>
            <a:r>
              <a:rPr b="1" lang="ru-RU" sz="2400" spc="-1" strike="noStrike">
                <a:solidFill>
                  <a:srgbClr val="4c26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5292720" y="898560"/>
            <a:ext cx="1871640" cy="2808360"/>
          </a:xfrm>
          <a:prstGeom prst="line">
            <a:avLst/>
          </a:prstGeom>
          <a:ln w="28440">
            <a:solidFill>
              <a:srgbClr val="2f1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Oval 8"/>
          <p:cNvSpPr/>
          <p:nvPr/>
        </p:nvSpPr>
        <p:spPr>
          <a:xfrm>
            <a:off x="5724360" y="1060560"/>
            <a:ext cx="3202200" cy="1349280"/>
          </a:xfrm>
          <a:prstGeom prst="ellipse">
            <a:avLst/>
          </a:prstGeom>
          <a:solidFill>
            <a:srgbClr val="ffdb93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1900"/>
                </a:solidFill>
                <a:latin typeface="Garamond"/>
              </a:rPr>
              <a:t>самостоятельное решение творческих задач</a:t>
            </a:r>
            <a:r>
              <a:rPr b="1" lang="ru-RU" sz="2000" spc="-1" strike="noStrike">
                <a:solidFill>
                  <a:srgbClr val="4c2600"/>
                </a:solidFill>
                <a:latin typeface="Garamond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23840"/>
            <a:ext cx="8786880" cy="5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000"/>
                </a:solidFill>
                <a:latin typeface="Garamond"/>
              </a:rPr>
              <a:t>«Плюсы» технологии «Творческая мастерска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5" name="Содержимое 3" descr=""/>
          <p:cNvPicPr/>
          <p:nvPr/>
        </p:nvPicPr>
        <p:blipFill>
          <a:blip r:embed="rId1"/>
          <a:stretch/>
        </p:blipFill>
        <p:spPr>
          <a:xfrm>
            <a:off x="6480" y="774720"/>
            <a:ext cx="916776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9"/>
          <p:cNvSpPr/>
          <p:nvPr/>
        </p:nvSpPr>
        <p:spPr>
          <a:xfrm>
            <a:off x="4900680" y="2595600"/>
            <a:ext cx="3456000" cy="780840"/>
          </a:xfrm>
          <a:prstGeom prst="roundRect">
            <a:avLst>
              <a:gd name="adj" fmla="val 16667"/>
            </a:avLst>
          </a:prstGeom>
          <a:solidFill>
            <a:srgbClr val="ffdaa3"/>
          </a:solidFill>
          <a:ln w="38160">
            <a:solidFill>
              <a:srgbClr val="00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108000" y="2571840"/>
            <a:ext cx="3456000" cy="780840"/>
          </a:xfrm>
          <a:prstGeom prst="roundRect">
            <a:avLst>
              <a:gd name="adj" fmla="val 16667"/>
            </a:avLst>
          </a:prstGeom>
          <a:solidFill>
            <a:srgbClr val="ffdaa3"/>
          </a:solidFill>
          <a:ln w="38160">
            <a:solidFill>
              <a:srgbClr val="00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8" name="Picture 13" descr="222"/>
          <p:cNvPicPr/>
          <p:nvPr/>
        </p:nvPicPr>
        <p:blipFill>
          <a:blip r:embed="rId1"/>
          <a:stretch/>
        </p:blipFill>
        <p:spPr>
          <a:xfrm>
            <a:off x="2987640" y="3540240"/>
            <a:ext cx="2668680" cy="157140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9"/>
          <p:cNvSpPr/>
          <p:nvPr/>
        </p:nvSpPr>
        <p:spPr>
          <a:xfrm>
            <a:off x="108000" y="1359000"/>
            <a:ext cx="3456000" cy="780840"/>
          </a:xfrm>
          <a:prstGeom prst="roundRect">
            <a:avLst>
              <a:gd name="adj" fmla="val 16667"/>
            </a:avLst>
          </a:prstGeom>
          <a:solidFill>
            <a:srgbClr val="ffdaa3"/>
          </a:solidFill>
          <a:ln w="38160">
            <a:solidFill>
              <a:srgbClr val="00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782720" y="404640"/>
            <a:ext cx="5740560" cy="720720"/>
          </a:xfrm>
          <a:prstGeom prst="rect">
            <a:avLst/>
          </a:prstGeom>
          <a:solidFill>
            <a:srgbClr val="f1e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23720" y="53640"/>
            <a:ext cx="31194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f15"/>
                </a:solidFill>
                <a:latin typeface="Garamond"/>
              </a:rPr>
              <a:t>Задачи технологии </a:t>
            </a:r>
            <a:br>
              <a:rPr sz="2000"/>
            </a:br>
            <a:r>
              <a:rPr b="1" lang="ru-RU" sz="2000" spc="-1" strike="noStrike">
                <a:solidFill>
                  <a:srgbClr val="203f15"/>
                </a:solidFill>
                <a:latin typeface="Garamond"/>
              </a:rPr>
              <a:t>«Творческая мастерская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0320" y="1370160"/>
            <a:ext cx="35899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f15"/>
                </a:solidFill>
                <a:latin typeface="Garamond"/>
              </a:rPr>
              <a:t>эффективное управление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f15"/>
                </a:solidFill>
                <a:latin typeface="Garamond"/>
              </a:rPr>
              <a:t>группой в процессе занятия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12240" y="2614680"/>
            <a:ext cx="3655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f15"/>
                </a:solidFill>
                <a:latin typeface="Garamond"/>
              </a:rPr>
              <a:t>поддержание высокой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f15"/>
                </a:solidFill>
                <a:latin typeface="Garamond"/>
              </a:rPr>
              <a:t>познавательной активности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724640" y="2616120"/>
            <a:ext cx="39207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f15"/>
                </a:solidFill>
                <a:latin typeface="Garamond"/>
              </a:rPr>
              <a:t>гарантированное достижение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f15"/>
                </a:solidFill>
                <a:latin typeface="Garamond"/>
              </a:rPr>
              <a:t>целей занятия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4900680" y="1370160"/>
            <a:ext cx="3456000" cy="738000"/>
          </a:xfrm>
          <a:prstGeom prst="roundRect">
            <a:avLst>
              <a:gd name="adj" fmla="val 16667"/>
            </a:avLst>
          </a:prstGeom>
          <a:solidFill>
            <a:srgbClr val="ffdaa3"/>
          </a:solidFill>
          <a:ln w="38160">
            <a:solidFill>
              <a:srgbClr val="00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5066280" y="1211400"/>
            <a:ext cx="323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f15"/>
                </a:solidFill>
                <a:latin typeface="Garamond"/>
              </a:rPr>
              <a:t>максимально полное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f15"/>
                </a:solidFill>
                <a:latin typeface="Garamond"/>
              </a:rPr>
              <a:t>вовлечение всех учащихся 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f15"/>
                </a:solidFill>
                <a:latin typeface="Garamond"/>
              </a:rPr>
              <a:t>в образовательный процесс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5040" y="195120"/>
            <a:ext cx="8964360" cy="8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Алгоритм проведения творческих мастерски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8160" y="393840"/>
          <a:ext cx="9072360" cy="4749840"/>
        </p:xfrm>
        <a:graphic>
          <a:graphicData uri="http://schemas.openxmlformats.org/drawingml/2006/table">
            <a:tbl>
              <a:tblPr/>
              <a:tblGrid>
                <a:gridCol w="660240"/>
                <a:gridCol w="1727280"/>
                <a:gridCol w="3113280"/>
                <a:gridCol w="3571560"/>
              </a:tblGrid>
              <a:tr h="24768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кция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ёт проблемную ситуацию, будит чувство, мысли, эмоции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ают проблему, задают вопросы, появляется желание решить данную проблему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308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онструкция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еливает на самостоятельную работу, даёт задание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о осмысливают проблему, создают гипотезы, рисунки, тексты, проекты, исходя из собственного опыта и имеющихся знаний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нструкция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создать микрогруппы, разбивает задание на ряд частичных задач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ют микрогруппы, ищут способы решения задач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изация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работу всех членов групп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члены микрогруппы выступают с отчётом о выполнении задачи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иширование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ирует своё творчество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ируют своё творчество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1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в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ёт настрой на осознание детьми несоответствия старого знания новому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живают внутренний эмоциональный конфликт, подвигающий к углублению в проблему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ёт вопросы: За что ты можешь себя похвалить? Что приобрёл? Что не удалось?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ают результаты работы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1"/>
          <p:cNvSpPr/>
          <p:nvPr/>
        </p:nvSpPr>
        <p:spPr>
          <a:xfrm>
            <a:off x="1000080" y="4017960"/>
            <a:ext cx="0" cy="642960"/>
          </a:xfrm>
          <a:prstGeom prst="line">
            <a:avLst/>
          </a:prstGeom>
          <a:ln w="28440">
            <a:solidFill>
              <a:srgbClr val="00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Line 20"/>
          <p:cNvSpPr/>
          <p:nvPr/>
        </p:nvSpPr>
        <p:spPr>
          <a:xfrm flipH="1">
            <a:off x="1000080" y="2570040"/>
            <a:ext cx="22320" cy="363600"/>
          </a:xfrm>
          <a:prstGeom prst="line">
            <a:avLst/>
          </a:prstGeom>
          <a:ln w="28440">
            <a:solidFill>
              <a:srgbClr val="00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Line 23"/>
          <p:cNvSpPr/>
          <p:nvPr/>
        </p:nvSpPr>
        <p:spPr>
          <a:xfrm>
            <a:off x="7807320" y="2664000"/>
            <a:ext cx="0" cy="269640"/>
          </a:xfrm>
          <a:prstGeom prst="line">
            <a:avLst/>
          </a:prstGeom>
          <a:ln w="28440">
            <a:solidFill>
              <a:srgbClr val="00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Line 23"/>
          <p:cNvSpPr/>
          <p:nvPr/>
        </p:nvSpPr>
        <p:spPr>
          <a:xfrm>
            <a:off x="7807320" y="3854520"/>
            <a:ext cx="0" cy="485640"/>
          </a:xfrm>
          <a:prstGeom prst="line">
            <a:avLst/>
          </a:prstGeom>
          <a:ln w="28440">
            <a:solidFill>
              <a:srgbClr val="00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1042920" y="573120"/>
            <a:ext cx="0" cy="1297080"/>
          </a:xfrm>
          <a:prstGeom prst="line">
            <a:avLst/>
          </a:prstGeom>
          <a:ln w="28440">
            <a:solidFill>
              <a:srgbClr val="00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357120" y="943200"/>
            <a:ext cx="3714840" cy="791280"/>
          </a:xfrm>
          <a:prstGeom prst="flowChartAlternateProcess">
            <a:avLst/>
          </a:prstGeom>
          <a:gradFill rotWithShape="0">
            <a:gsLst>
              <a:gs pos="0">
                <a:srgbClr val="ffe28f"/>
              </a:gs>
              <a:gs pos="100000">
                <a:srgbClr val="d6d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00"/>
                </a:solidFill>
                <a:latin typeface="Garamond"/>
              </a:rPr>
              <a:t>Метод сравнения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00"/>
                </a:solidFill>
                <a:latin typeface="Garamond"/>
              </a:rPr>
              <a:t>версий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428760" y="1829520"/>
            <a:ext cx="3536640" cy="857520"/>
          </a:xfrm>
          <a:prstGeom prst="flowChartAlternateProcess">
            <a:avLst/>
          </a:prstGeom>
          <a:gradFill rotWithShape="0">
            <a:gsLst>
              <a:gs pos="0">
                <a:srgbClr val="ffe28f"/>
              </a:gs>
              <a:gs pos="100000">
                <a:srgbClr val="d6d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00"/>
                </a:solidFill>
                <a:latin typeface="Garamond"/>
              </a:rPr>
              <a:t>Метод «ключевых слов»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4786200" y="2876760"/>
            <a:ext cx="4000680" cy="1186920"/>
          </a:xfrm>
          <a:prstGeom prst="flowChartAlternateProcess">
            <a:avLst/>
          </a:prstGeom>
          <a:gradFill rotWithShape="0">
            <a:gsLst>
              <a:gs pos="0">
                <a:srgbClr val="ffe28f"/>
              </a:gs>
              <a:gs pos="100000">
                <a:srgbClr val="d6d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00"/>
                </a:solidFill>
                <a:latin typeface="Garamond"/>
              </a:rPr>
              <a:t>Метод эвристического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2600"/>
                </a:solidFill>
                <a:latin typeface="Garamond"/>
              </a:rPr>
              <a:t>исследования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428760" y="2737800"/>
            <a:ext cx="3536640" cy="1383840"/>
          </a:xfrm>
          <a:prstGeom prst="flowChartAlternateProcess">
            <a:avLst/>
          </a:prstGeom>
          <a:gradFill rotWithShape="0">
            <a:gsLst>
              <a:gs pos="0">
                <a:srgbClr val="ffe28f"/>
              </a:gs>
              <a:gs pos="100000">
                <a:srgbClr val="d6d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00"/>
                </a:solidFill>
                <a:latin typeface="Garamond"/>
              </a:rPr>
              <a:t>Метод самостоятельного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2600"/>
                </a:solidFill>
                <a:latin typeface="Garamond"/>
              </a:rPr>
              <a:t>конструирования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00"/>
                </a:solidFill>
                <a:latin typeface="Garamond"/>
              </a:rPr>
              <a:t>определений понятий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Line 16"/>
          <p:cNvSpPr/>
          <p:nvPr/>
        </p:nvSpPr>
        <p:spPr>
          <a:xfrm flipH="1">
            <a:off x="1042560" y="573120"/>
            <a:ext cx="1368360" cy="0"/>
          </a:xfrm>
          <a:prstGeom prst="line">
            <a:avLst/>
          </a:prstGeom>
          <a:ln w="28440">
            <a:solidFill>
              <a:srgbClr val="001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13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6732720" y="681120"/>
            <a:ext cx="1074600" cy="0"/>
          </a:xfrm>
          <a:prstGeom prst="line">
            <a:avLst/>
          </a:prstGeom>
          <a:ln w="28440">
            <a:solidFill>
              <a:srgbClr val="001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13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7807320" y="696960"/>
            <a:ext cx="0" cy="1341360"/>
          </a:xfrm>
          <a:prstGeom prst="line">
            <a:avLst/>
          </a:prstGeom>
          <a:ln w="28440">
            <a:solidFill>
              <a:srgbClr val="00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411280" y="-128520"/>
            <a:ext cx="4319640" cy="1159200"/>
          </a:xfrm>
          <a:prstGeom prst="rect">
            <a:avLst/>
          </a:prstGeom>
          <a:gradFill rotWithShape="0">
            <a:gsLst>
              <a:gs pos="0">
                <a:srgbClr val="c8c300"/>
              </a:gs>
              <a:gs pos="50000">
                <a:srgbClr val="ffdb75"/>
              </a:gs>
              <a:gs pos="100000">
                <a:srgbClr val="c8c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етоды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технологии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786200" y="967320"/>
            <a:ext cx="4000680" cy="794160"/>
          </a:xfrm>
          <a:prstGeom prst="rect">
            <a:avLst/>
          </a:prstGeom>
          <a:gradFill rotWithShape="0">
            <a:gsLst>
              <a:gs pos="0">
                <a:srgbClr val="c8c300"/>
              </a:gs>
              <a:gs pos="50000">
                <a:srgbClr val="ffdb75"/>
              </a:gs>
              <a:gs pos="100000">
                <a:srgbClr val="c8c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00"/>
                </a:solidFill>
                <a:latin typeface="Garamond"/>
              </a:rPr>
              <a:t>Метод символического видения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6072120" y="750960"/>
            <a:ext cx="0" cy="376200"/>
          </a:xfrm>
          <a:prstGeom prst="line">
            <a:avLst/>
          </a:prstGeom>
          <a:ln w="76320">
            <a:solidFill>
              <a:srgbClr val="001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428760" y="4408560"/>
            <a:ext cx="3536640" cy="495000"/>
          </a:xfrm>
          <a:prstGeom prst="flowChartAlternateProcess">
            <a:avLst/>
          </a:prstGeom>
          <a:gradFill rotWithShape="0">
            <a:gsLst>
              <a:gs pos="0">
                <a:srgbClr val="ffe28f"/>
              </a:gs>
              <a:gs pos="100000">
                <a:srgbClr val="d6d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a00"/>
                </a:solidFill>
                <a:latin typeface="Garamond"/>
              </a:rPr>
              <a:t>Метод «Если бы» 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2571840" y="750960"/>
            <a:ext cx="0" cy="376200"/>
          </a:xfrm>
          <a:prstGeom prst="line">
            <a:avLst/>
          </a:prstGeom>
          <a:ln w="76320">
            <a:solidFill>
              <a:srgbClr val="001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3286080" y="1660680"/>
            <a:ext cx="0" cy="377640"/>
          </a:xfrm>
          <a:prstGeom prst="line">
            <a:avLst/>
          </a:prstGeom>
          <a:ln w="76320">
            <a:solidFill>
              <a:srgbClr val="001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4859280" y="4187160"/>
            <a:ext cx="3927600" cy="857520"/>
          </a:xfrm>
          <a:prstGeom prst="flowChartAlternateProcess">
            <a:avLst/>
          </a:prstGeom>
          <a:gradFill rotWithShape="0">
            <a:gsLst>
              <a:gs pos="0">
                <a:srgbClr val="ffe28f"/>
              </a:gs>
              <a:gs pos="100000">
                <a:srgbClr val="d6d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00"/>
                </a:solidFill>
                <a:latin typeface="Garamond"/>
              </a:rPr>
              <a:t>Метод смыслового видения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4786200" y="1829520"/>
            <a:ext cx="4000680" cy="857520"/>
          </a:xfrm>
          <a:prstGeom prst="flowChartAlternateProcess">
            <a:avLst/>
          </a:prstGeom>
          <a:gradFill rotWithShape="0">
            <a:gsLst>
              <a:gs pos="0">
                <a:srgbClr val="ffe28f"/>
              </a:gs>
              <a:gs pos="100000">
                <a:srgbClr val="d6d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00"/>
                </a:solidFill>
                <a:latin typeface="Garamond"/>
              </a:rPr>
              <a:t>Метод смысловых ассоциаций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5143680" y="1660680"/>
            <a:ext cx="0" cy="377640"/>
          </a:xfrm>
          <a:prstGeom prst="line">
            <a:avLst/>
          </a:prstGeom>
          <a:ln w="76320">
            <a:solidFill>
              <a:srgbClr val="001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http://qrcoder.ru/code/?https%3A%2F%2Fforms.gle%2F15aqN3HAeNKiuDfS9&amp;4&amp;0"/>
          <p:cNvPicPr/>
          <p:nvPr/>
        </p:nvPicPr>
        <p:blipFill>
          <a:blip r:embed="rId1"/>
          <a:stretch/>
        </p:blipFill>
        <p:spPr>
          <a:xfrm>
            <a:off x="3203640" y="1276200"/>
            <a:ext cx="2762280" cy="2502000"/>
          </a:xfrm>
          <a:prstGeom prst="rect">
            <a:avLst/>
          </a:prstGeom>
          <a:ln w="0">
            <a:noFill/>
          </a:ln>
        </p:spPr>
      </p:pic>
      <p:sp>
        <p:nvSpPr>
          <p:cNvPr id="272" name="Заголовок 1"/>
          <p:cNvSpPr/>
          <p:nvPr/>
        </p:nvSpPr>
        <p:spPr>
          <a:xfrm>
            <a:off x="0" y="123840"/>
            <a:ext cx="878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000"/>
                </a:solidFill>
                <a:latin typeface="Garamond"/>
              </a:rPr>
              <a:t>Тест на знание этапов технологии «Творческая мастерская»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Заголовок 1"/>
          <p:cNvSpPr/>
          <p:nvPr/>
        </p:nvSpPr>
        <p:spPr>
          <a:xfrm>
            <a:off x="1979640" y="201600"/>
            <a:ext cx="5113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000"/>
                </a:solidFill>
                <a:latin typeface="Garamond"/>
              </a:rPr>
              <a:t>КОЛЕСО БАЛАНСА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4" name="Рисунок 4" descr=""/>
          <p:cNvPicPr/>
          <p:nvPr/>
        </p:nvPicPr>
        <p:blipFill>
          <a:blip r:embed="rId1"/>
          <a:srcRect l="0" t="12037" r="0" b="0"/>
          <a:stretch/>
        </p:blipFill>
        <p:spPr>
          <a:xfrm>
            <a:off x="1174680" y="682560"/>
            <a:ext cx="67215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" descr=""/>
          <p:cNvPicPr/>
          <p:nvPr/>
        </p:nvPicPr>
        <p:blipFill>
          <a:blip r:embed="rId1"/>
          <a:stretch/>
        </p:blipFill>
        <p:spPr>
          <a:xfrm>
            <a:off x="1039680" y="0"/>
            <a:ext cx="72741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Диаграмма 1" descr=""/>
          <p:cNvPicPr/>
          <p:nvPr/>
        </p:nvPicPr>
        <p:blipFill>
          <a:blip r:embed="rId1"/>
          <a:stretch/>
        </p:blipFill>
        <p:spPr>
          <a:xfrm>
            <a:off x="200160" y="-50760"/>
            <a:ext cx="88153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"/>
          <p:cNvPicPr/>
          <p:nvPr/>
        </p:nvPicPr>
        <p:blipFill>
          <a:blip r:embed="rId1"/>
          <a:stretch/>
        </p:blipFill>
        <p:spPr>
          <a:xfrm>
            <a:off x="517680" y="411120"/>
            <a:ext cx="7927920" cy="48070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 rot="19607400">
            <a:off x="745920" y="110916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ВАРИУМ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Box 3"/>
          <p:cNvSpPr/>
          <p:nvPr/>
        </p:nvSpPr>
        <p:spPr>
          <a:xfrm rot="19939200">
            <a:off x="3508920" y="13050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ЕЙС-МЕТОД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TextBox 4"/>
          <p:cNvSpPr/>
          <p:nvPr/>
        </p:nvSpPr>
        <p:spPr>
          <a:xfrm rot="20103600">
            <a:off x="6246000" y="145080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ЕСТ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 rot="20311200">
            <a:off x="1168920" y="274644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БАТЫ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Box 6"/>
          <p:cNvSpPr/>
          <p:nvPr/>
        </p:nvSpPr>
        <p:spPr>
          <a:xfrm rot="19887000">
            <a:off x="3552120" y="27464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РУСЕЛЬ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TextBox 7"/>
          <p:cNvSpPr/>
          <p:nvPr/>
        </p:nvSpPr>
        <p:spPr>
          <a:xfrm rot="19637400">
            <a:off x="5914800" y="278136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ОК-ШОУ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TextBox 8"/>
          <p:cNvSpPr/>
          <p:nvPr/>
        </p:nvSpPr>
        <p:spPr>
          <a:xfrm rot="20413800">
            <a:off x="1052640" y="41241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ЕНИНГИ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TextBox 9"/>
          <p:cNvSpPr/>
          <p:nvPr/>
        </p:nvSpPr>
        <p:spPr>
          <a:xfrm rot="19756800">
            <a:off x="3930120" y="4130640"/>
            <a:ext cx="166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МИРОВОЕ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TextBox 10"/>
          <p:cNvSpPr/>
          <p:nvPr/>
        </p:nvSpPr>
        <p:spPr>
          <a:xfrm rot="19821600">
            <a:off x="4525560" y="44686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ФЕ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TextBox 11"/>
          <p:cNvSpPr/>
          <p:nvPr/>
        </p:nvSpPr>
        <p:spPr>
          <a:xfrm rot="20350200">
            <a:off x="6480360" y="451476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СТЕРСКАЯ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TextBox 12"/>
          <p:cNvSpPr/>
          <p:nvPr/>
        </p:nvSpPr>
        <p:spPr>
          <a:xfrm rot="20354400">
            <a:off x="6327360" y="4158720"/>
            <a:ext cx="19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ВОРЧЕСКАЯ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Прямоугольник 13"/>
          <p:cNvSpPr/>
          <p:nvPr/>
        </p:nvSpPr>
        <p:spPr>
          <a:xfrm>
            <a:off x="433440" y="44280"/>
            <a:ext cx="88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44800"/>
                </a:solidFill>
                <a:latin typeface="Garamond"/>
              </a:rPr>
              <a:t>ИНТЕРАКТИВНЫЕ ФОРМЫ 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СЛАЙД2jpg.jpg"/>
          <p:cNvPicPr/>
          <p:nvPr/>
        </p:nvPicPr>
        <p:blipFill>
          <a:blip r:embed="rId1"/>
          <a:stretch/>
        </p:blipFill>
        <p:spPr>
          <a:xfrm>
            <a:off x="0" y="-182520"/>
            <a:ext cx="9144000" cy="51433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стр.jpg"/>
          <p:cNvPicPr/>
          <p:nvPr/>
        </p:nvPicPr>
        <p:blipFill>
          <a:blip r:embed="rId2"/>
          <a:stretch/>
        </p:blipFill>
        <p:spPr>
          <a:xfrm rot="20219400">
            <a:off x="3890880" y="4254120"/>
            <a:ext cx="1639800" cy="531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стр.jpg"/>
          <p:cNvPicPr/>
          <p:nvPr/>
        </p:nvPicPr>
        <p:blipFill>
          <a:blip r:embed="rId3"/>
          <a:stretch/>
        </p:blipFill>
        <p:spPr>
          <a:xfrm rot="891000">
            <a:off x="3766680" y="950400"/>
            <a:ext cx="1727280" cy="6019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9"/>
          <p:cNvSpPr/>
          <p:nvPr/>
        </p:nvSpPr>
        <p:spPr>
          <a:xfrm>
            <a:off x="500040" y="3106800"/>
            <a:ext cx="4572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5570640" y="968760"/>
            <a:ext cx="3287520" cy="324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e6cf48"/>
              </a:gs>
            </a:gsLst>
            <a:lin ang="0"/>
          </a:gradFill>
          <a:ln w="2844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,  успешно реализующий дополнительные общеобразовательные программы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22" descr="021e09c8d5dc646d28d05234f2e438e2"/>
          <p:cNvPicPr/>
          <p:nvPr/>
        </p:nvPicPr>
        <p:blipFill>
          <a:blip r:embed="rId4"/>
          <a:stretch/>
        </p:blipFill>
        <p:spPr>
          <a:xfrm>
            <a:off x="5881680" y="73080"/>
            <a:ext cx="2665440" cy="16905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4"/>
          <p:cNvSpPr/>
          <p:nvPr/>
        </p:nvSpPr>
        <p:spPr>
          <a:xfrm>
            <a:off x="1332000" y="1775520"/>
            <a:ext cx="3740040" cy="131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e6cf48"/>
              </a:gs>
            </a:gsLst>
            <a:lin ang="0"/>
          </a:gradFill>
          <a:ln w="2844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фессиональные знания и навыки педагога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774720" y="328320"/>
            <a:ext cx="3351240" cy="131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e6cf48"/>
              </a:gs>
            </a:gsLst>
            <a:lin ang="0"/>
          </a:gradFill>
          <a:ln w="2844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чностные качества педагога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368280" y="3272400"/>
            <a:ext cx="3951360" cy="131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e6cf48"/>
              </a:gs>
            </a:gsLst>
            <a:lin ang="0"/>
          </a:gradFill>
          <a:ln w="2844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ответствие требованиям профессионального стандарта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Object 4"/>
          <p:cNvGraphicFramePr/>
          <p:nvPr/>
        </p:nvGraphicFramePr>
        <p:xfrm>
          <a:off x="0" y="0"/>
          <a:ext cx="9144000" cy="5143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Picture 9" descr=""/>
          <p:cNvPicPr/>
          <p:nvPr/>
        </p:nvPicPr>
        <p:blipFill>
          <a:blip r:embed="rId3"/>
          <a:stretch/>
        </p:blipFill>
        <p:spPr>
          <a:xfrm>
            <a:off x="0" y="141120"/>
            <a:ext cx="2411280" cy="23558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7"/>
          <p:cNvSpPr txBox="1"/>
          <p:nvPr/>
        </p:nvSpPr>
        <p:spPr>
          <a:xfrm>
            <a:off x="900000" y="1870200"/>
            <a:ext cx="691200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Спасибо за внимание!!!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5"/>
          <p:cNvSpPr/>
          <p:nvPr/>
        </p:nvSpPr>
        <p:spPr>
          <a:xfrm>
            <a:off x="395280" y="842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244800"/>
                </a:solidFill>
                <a:latin typeface="Garamond"/>
              </a:rPr>
              <a:t>Требования к профессиональным компетенциям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Группа 8"/>
          <p:cNvGrpSpPr/>
          <p:nvPr/>
        </p:nvGrpSpPr>
        <p:grpSpPr>
          <a:xfrm>
            <a:off x="641520" y="958320"/>
            <a:ext cx="3889080" cy="4030920"/>
            <a:chOff x="641520" y="958320"/>
            <a:chExt cx="3889080" cy="4030920"/>
          </a:xfrm>
        </p:grpSpPr>
        <p:sp>
          <p:nvSpPr>
            <p:cNvPr id="182" name="Прямоугольник с двумя скругленными соседними углами 9"/>
            <p:cNvSpPr/>
            <p:nvPr/>
          </p:nvSpPr>
          <p:spPr>
            <a:xfrm rot="16200000">
              <a:off x="570600" y="1029240"/>
              <a:ext cx="4030920" cy="3889080"/>
            </a:xfrm>
            <a:custGeom>
              <a:avLst/>
              <a:gdLst/>
              <a:ahLst/>
              <a:rect l="l" t="t" r="r" b="b"/>
              <a:pathLst>
                <a:path w="5374427" h="3889011">
                  <a:moveTo>
                    <a:pt x="648298" y="0"/>
                  </a:moveTo>
                  <a:lnTo>
                    <a:pt x="4726129" y="0"/>
                  </a:lnTo>
                  <a:cubicBezTo>
                    <a:pt x="5084174" y="0"/>
                    <a:pt x="5374427" y="290253"/>
                    <a:pt x="5374427" y="648298"/>
                  </a:cubicBezTo>
                  <a:lnTo>
                    <a:pt x="5374427" y="3889011"/>
                  </a:lnTo>
                  <a:lnTo>
                    <a:pt x="5374427" y="3889011"/>
                  </a:lnTo>
                  <a:lnTo>
                    <a:pt x="0" y="3889011"/>
                  </a:lnTo>
                  <a:lnTo>
                    <a:pt x="0" y="3889011"/>
                  </a:lnTo>
                  <a:lnTo>
                    <a:pt x="0" y="648298"/>
                  </a:lnTo>
                  <a:cubicBezTo>
                    <a:pt x="0" y="290253"/>
                    <a:pt x="290253" y="0"/>
                    <a:pt x="648298" y="0"/>
                  </a:cubicBezTo>
                  <a:close/>
                </a:path>
              </a:pathLst>
            </a:custGeom>
            <a:solidFill>
              <a:srgbClr val="e7d4bc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Прямоугольник 10"/>
            <p:cNvSpPr/>
            <p:nvPr/>
          </p:nvSpPr>
          <p:spPr>
            <a:xfrm>
              <a:off x="880200" y="1066680"/>
              <a:ext cx="3493800" cy="38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152280" bIns="152280" anchor="t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000" spc="-1" strike="noStrike">
                  <a:solidFill>
                    <a:srgbClr val="244800"/>
                  </a:solidFill>
                  <a:latin typeface="Garamond"/>
                </a:rPr>
                <a:t>Требования профессионального стандарта:</a:t>
              </a:r>
              <a:endParaRPr b="1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сихолого-педагогическое и организационно-методическое обеспечение реализации дополнительных общеобразовательных программ в ходе организации образовательного процесса, знание и владение современными педагогическими технологиями</a:t>
              </a:r>
              <a:endParaRPr b="1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1" lang="en-US" sz="11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244800"/>
                  </a:solidFill>
                  <a:latin typeface="Garamond"/>
                </a:rPr>
                <a:t>HARD SKILLS </a:t>
              </a:r>
              <a:endParaRPr b="1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84" name="Группа 11"/>
          <p:cNvGrpSpPr/>
          <p:nvPr/>
        </p:nvGrpSpPr>
        <p:grpSpPr>
          <a:xfrm>
            <a:off x="4686120" y="971640"/>
            <a:ext cx="3779640" cy="4030560"/>
            <a:chOff x="4686120" y="971640"/>
            <a:chExt cx="3779640" cy="4030560"/>
          </a:xfrm>
        </p:grpSpPr>
        <p:sp>
          <p:nvSpPr>
            <p:cNvPr id="185" name="Прямоугольник с двумя скругленными соседними углами 12"/>
            <p:cNvSpPr/>
            <p:nvPr/>
          </p:nvSpPr>
          <p:spPr>
            <a:xfrm rot="5400000">
              <a:off x="4560480" y="1096920"/>
              <a:ext cx="4030560" cy="3779640"/>
            </a:xfrm>
            <a:custGeom>
              <a:avLst/>
              <a:gdLst/>
              <a:ahLst/>
              <a:rect l="l" t="t" r="r" b="b"/>
              <a:pathLst>
                <a:path w="4268136" h="3554573">
                  <a:moveTo>
                    <a:pt x="592547" y="0"/>
                  </a:moveTo>
                  <a:lnTo>
                    <a:pt x="3675589" y="0"/>
                  </a:lnTo>
                  <a:cubicBezTo>
                    <a:pt x="4002844" y="0"/>
                    <a:pt x="4268136" y="265292"/>
                    <a:pt x="4268136" y="592547"/>
                  </a:cubicBezTo>
                  <a:lnTo>
                    <a:pt x="4268136" y="3554573"/>
                  </a:lnTo>
                  <a:lnTo>
                    <a:pt x="4268136" y="3554573"/>
                  </a:lnTo>
                  <a:lnTo>
                    <a:pt x="0" y="3554573"/>
                  </a:lnTo>
                  <a:lnTo>
                    <a:pt x="0" y="3554573"/>
                  </a:lnTo>
                  <a:lnTo>
                    <a:pt x="0" y="592547"/>
                  </a:lnTo>
                  <a:cubicBezTo>
                    <a:pt x="0" y="265292"/>
                    <a:pt x="265292" y="0"/>
                    <a:pt x="592547" y="0"/>
                  </a:cubicBezTo>
                  <a:close/>
                </a:path>
              </a:pathLst>
            </a:custGeom>
            <a:solidFill>
              <a:srgbClr val="e7d4bc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Прямоугольник 13"/>
            <p:cNvSpPr/>
            <p:nvPr/>
          </p:nvSpPr>
          <p:spPr>
            <a:xfrm>
              <a:off x="4686480" y="1135440"/>
              <a:ext cx="3595320" cy="37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1520" rIns="247680" tIns="412920" bIns="412920" anchor="t">
              <a:noAutofit/>
            </a:bodyPr>
            <a:p>
              <a:pPr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7" name="TextBox 14"/>
          <p:cNvSpPr/>
          <p:nvPr/>
        </p:nvSpPr>
        <p:spPr>
          <a:xfrm>
            <a:off x="4901040" y="915840"/>
            <a:ext cx="33310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800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Концепция «4</a:t>
            </a:r>
            <a:r>
              <a:rPr b="1" lang="en-US" sz="2400" spc="-1" strike="noStrike">
                <a:solidFill>
                  <a:srgbClr val="244800"/>
                </a:solidFill>
                <a:latin typeface="Garamond"/>
              </a:rPr>
              <a:t> – </a:t>
            </a: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К»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тивность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ическое мышление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андообразование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муникация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800"/>
                </a:solidFill>
                <a:latin typeface="Garamond"/>
              </a:rPr>
              <a:t>SOFT SKILLS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хема 1" descr=""/>
          <p:cNvPicPr/>
          <p:nvPr/>
        </p:nvPicPr>
        <p:blipFill>
          <a:blip r:embed="rId1"/>
          <a:stretch/>
        </p:blipFill>
        <p:spPr>
          <a:xfrm>
            <a:off x="176040" y="30240"/>
            <a:ext cx="7169400" cy="5078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5645160" y="-281160"/>
            <a:ext cx="226692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3"/>
          <a:stretch/>
        </p:blipFill>
        <p:spPr>
          <a:xfrm>
            <a:off x="622440" y="2444760"/>
            <a:ext cx="3230280" cy="3224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4"/>
          <a:stretch/>
        </p:blipFill>
        <p:spPr>
          <a:xfrm>
            <a:off x="6229440" y="1073160"/>
            <a:ext cx="2970000" cy="29131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1481760" y="37418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19"/>
                </a:solidFill>
                <a:latin typeface="Garamond"/>
              </a:rPr>
              <a:t>ТВОРЧЕСКИЙ 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19"/>
                </a:solidFill>
                <a:latin typeface="Garamond"/>
              </a:rPr>
              <a:t>ПОТЕНЦИАЛ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6748920" y="2230560"/>
            <a:ext cx="194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d3319"/>
                </a:solidFill>
                <a:latin typeface="Garamond"/>
              </a:rPr>
              <a:t>кооперация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5804280" y="584280"/>
            <a:ext cx="171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d3319"/>
                </a:solidFill>
                <a:latin typeface="Garamond"/>
              </a:rPr>
              <a:t>ОРГАНИЗАТОРСКИЕ </a:t>
            </a: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d3319"/>
                </a:solidFill>
                <a:latin typeface="Garamond"/>
              </a:rPr>
              <a:t>     </a:t>
            </a:r>
            <a:r>
              <a:rPr b="1" lang="ru-RU" sz="1100" spc="-1" strike="noStrike">
                <a:solidFill>
                  <a:srgbClr val="4d3319"/>
                </a:solidFill>
                <a:latin typeface="Garamond"/>
              </a:rPr>
              <a:t>СПОСОБНОСТИ</a:t>
            </a: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50920" y="961920"/>
            <a:ext cx="880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- стимулирование интереса и мотивации к самообразованию;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- повышение уровня активности и самостоятельности;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- развитие навыков анализа и рефлексии своей деятельности;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- развитие стремления к сотрудничеству, эмпатии;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- обеспечение обратной связи, формирование положительного общения между педагогами;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- мотивация педагогов к использование интерактивных технологий в учебном процессе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62000" y="243000"/>
            <a:ext cx="889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44800"/>
                </a:solidFill>
                <a:latin typeface="Garamond"/>
              </a:rPr>
              <a:t>Цель использования интерактивных форм работы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517680" y="411120"/>
            <a:ext cx="7927920" cy="4807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 rot="19607400">
            <a:off x="745920" y="110916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ВАРИУМ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Box 3"/>
          <p:cNvSpPr/>
          <p:nvPr/>
        </p:nvSpPr>
        <p:spPr>
          <a:xfrm rot="19939200">
            <a:off x="3508920" y="13050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ЕЙС-МЕТОД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Box 4"/>
          <p:cNvSpPr/>
          <p:nvPr/>
        </p:nvSpPr>
        <p:spPr>
          <a:xfrm rot="20103600">
            <a:off x="6246000" y="145080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ЕСТ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Box 5"/>
          <p:cNvSpPr/>
          <p:nvPr/>
        </p:nvSpPr>
        <p:spPr>
          <a:xfrm rot="20311200">
            <a:off x="1168920" y="274644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БАТЫ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Box 6"/>
          <p:cNvSpPr/>
          <p:nvPr/>
        </p:nvSpPr>
        <p:spPr>
          <a:xfrm rot="19887000">
            <a:off x="3552120" y="27464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РУСЕЛЬ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Box 7"/>
          <p:cNvSpPr/>
          <p:nvPr/>
        </p:nvSpPr>
        <p:spPr>
          <a:xfrm rot="19637400">
            <a:off x="5914800" y="278136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ОК-ШОУ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Box 8"/>
          <p:cNvSpPr/>
          <p:nvPr/>
        </p:nvSpPr>
        <p:spPr>
          <a:xfrm rot="20413800">
            <a:off x="1052640" y="412416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ЕНИНГИ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Box 9"/>
          <p:cNvSpPr/>
          <p:nvPr/>
        </p:nvSpPr>
        <p:spPr>
          <a:xfrm rot="19756800">
            <a:off x="3930120" y="4130640"/>
            <a:ext cx="166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МИРОВОЕ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Box 10"/>
          <p:cNvSpPr/>
          <p:nvPr/>
        </p:nvSpPr>
        <p:spPr>
          <a:xfrm rot="19821600">
            <a:off x="4525560" y="44686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ФЕ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Box 11"/>
          <p:cNvSpPr/>
          <p:nvPr/>
        </p:nvSpPr>
        <p:spPr>
          <a:xfrm rot="20350200">
            <a:off x="6480360" y="451476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СТЕРСКАЯ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Box 12"/>
          <p:cNvSpPr/>
          <p:nvPr/>
        </p:nvSpPr>
        <p:spPr>
          <a:xfrm rot="20354400">
            <a:off x="6327360" y="4158720"/>
            <a:ext cx="19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ВОРЧЕСКАЯ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Прямоугольник 13"/>
          <p:cNvSpPr/>
          <p:nvPr/>
        </p:nvSpPr>
        <p:spPr>
          <a:xfrm>
            <a:off x="433440" y="44280"/>
            <a:ext cx="88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44800"/>
                </a:solidFill>
                <a:latin typeface="Garamond"/>
              </a:rPr>
              <a:t>ИНТЕРАКТИВНЫЕ ФОРМЫ 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1979640" y="0"/>
            <a:ext cx="487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44800"/>
                </a:solidFill>
                <a:latin typeface="Garamond"/>
              </a:rPr>
              <a:t>«Мировое кафе»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Прямоугольник 2"/>
          <p:cNvSpPr/>
          <p:nvPr/>
        </p:nvSpPr>
        <p:spPr>
          <a:xfrm>
            <a:off x="187200" y="555480"/>
            <a:ext cx="8826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Garamond"/>
              </a:rPr>
              <a:t>технология организации дискуссии в малых группах, искусство разговора по делу, разговора о сути дела в непринужденной и открытой атмосфере, в уютной обстановке кафе</a:t>
            </a:r>
            <a:r>
              <a:rPr b="1" lang="ru-RU" sz="2400" spc="-1" strike="noStrike">
                <a:solidFill>
                  <a:srgbClr val="2448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Схема 4" descr=""/>
          <p:cNvPicPr/>
          <p:nvPr/>
        </p:nvPicPr>
        <p:blipFill>
          <a:blip r:embed="rId1"/>
          <a:stretch/>
        </p:blipFill>
        <p:spPr>
          <a:xfrm>
            <a:off x="165240" y="1652760"/>
            <a:ext cx="5467320" cy="1755720"/>
          </a:xfrm>
          <a:prstGeom prst="rect">
            <a:avLst/>
          </a:prstGeom>
          <a:ln w="0">
            <a:noFill/>
          </a:ln>
        </p:spPr>
      </p:pic>
      <p:pic>
        <p:nvPicPr>
          <p:cNvPr id="213" name="Схема 6" descr=""/>
          <p:cNvPicPr/>
          <p:nvPr/>
        </p:nvPicPr>
        <p:blipFill>
          <a:blip r:embed="rId2"/>
          <a:stretch/>
        </p:blipFill>
        <p:spPr>
          <a:xfrm>
            <a:off x="3541680" y="3389400"/>
            <a:ext cx="5469120" cy="1768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468360" y="3649680"/>
            <a:ext cx="17272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6" descr=""/>
          <p:cNvPicPr/>
          <p:nvPr/>
        </p:nvPicPr>
        <p:blipFill>
          <a:blip r:embed="rId1"/>
          <a:stretch/>
        </p:blipFill>
        <p:spPr>
          <a:xfrm>
            <a:off x="-12600" y="950760"/>
            <a:ext cx="9175680" cy="420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195120"/>
            <a:ext cx="6782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Основные принципы «Мирового кафе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3"/>
          <p:cNvSpPr/>
          <p:nvPr/>
        </p:nvSpPr>
        <p:spPr>
          <a:xfrm>
            <a:off x="468360" y="1274760"/>
            <a:ext cx="7777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5868360" y="246384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595080"/>
            <a:ext cx="55087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11" descr="b2d2e0bf67e8aaed523b145bd3e8440b"/>
          <p:cNvPicPr/>
          <p:nvPr/>
        </p:nvPicPr>
        <p:blipFill>
          <a:blip r:embed="rId1"/>
          <a:stretch/>
        </p:blipFill>
        <p:spPr>
          <a:xfrm>
            <a:off x="2627280" y="3363840"/>
            <a:ext cx="6085080" cy="177984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1"/>
          <p:cNvSpPr/>
          <p:nvPr/>
        </p:nvSpPr>
        <p:spPr>
          <a:xfrm>
            <a:off x="90360" y="463680"/>
            <a:ext cx="893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орческая мастерская </a:t>
            </a:r>
            <a:r>
              <a:rPr b="1" i="1" lang="ru-RU" sz="2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технология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обучения учащихся, которая создает условия для восхождения каждого участника к новому знанию  и новому опыту путем самостоятельного или коллективного открытия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90360" y="2340000"/>
            <a:ext cx="90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технологии: </a:t>
            </a:r>
            <a:r>
              <a:rPr b="1" lang="ru-RU" sz="2000" spc="-1" strike="noStrike">
                <a:solidFill>
                  <a:srgbClr val="0c1800"/>
                </a:solidFill>
                <a:latin typeface="Garamond"/>
              </a:rPr>
              <a:t>Создание совместной творческой деятельности педагога-мастера и учащихся по проектированию, организации и проведению  учебного процесса для достижения совместной цели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8:48:19Z</dcterms:created>
  <dc:creator>user</dc:creator>
  <dc:description/>
  <dc:language>en-US</dc:language>
  <cp:lastModifiedBy>Victoria</cp:lastModifiedBy>
  <dcterms:modified xsi:type="dcterms:W3CDTF">2022-05-17T14:27:29Z</dcterms:modified>
  <cp:revision>38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49</vt:lpwstr>
  </property>
</Properties>
</file>